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57.wmf" ContentType="image/x-wmf"/>
  <Override PartName="/ppt/media/image55.wmf" ContentType="image/x-wmf"/>
  <Override PartName="/ppt/media/image52.png" ContentType="image/png"/>
  <Override PartName="/ppt/media/image49.png" ContentType="image/png"/>
  <Override PartName="/ppt/media/image71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png" ContentType="image/png"/>
  <Override PartName="/ppt/media/image39.wmf" ContentType="image/x-wmf"/>
  <Override PartName="/ppt/media/image35.wmf" ContentType="image/x-wmf"/>
  <Override PartName="/ppt/media/image33.wmf" ContentType="image/x-wmf"/>
  <Override PartName="/ppt/media/image76.png" ContentType="image/png"/>
  <Override PartName="/ppt/media/image31.wmf" ContentType="image/x-wmf"/>
  <Override PartName="/ppt/media/image51.wmf" ContentType="image/x-wmf"/>
  <Override PartName="/ppt/media/image29.png" ContentType="image/png"/>
  <Override PartName="/ppt/media/image11.png" ContentType="image/png"/>
  <Override PartName="/ppt/media/image36.wmf" ContentType="image/x-wmf"/>
  <Override PartName="/ppt/media/image79.png" ContentType="image/png"/>
  <Override PartName="/ppt/media/image6.wmf" ContentType="image/x-wmf"/>
  <Override PartName="/ppt/media/image2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30.png" ContentType="image/png"/>
  <Override PartName="/ppt/media/image28.wmf" ContentType="image/x-wmf"/>
  <Override PartName="/ppt/media/image70.wmf" ContentType="image/x-wmf"/>
  <Override PartName="/ppt/media/image24.wmf" ContentType="image/x-wmf"/>
  <Override PartName="/ppt/media/image63.png" ContentType="image/png"/>
  <Override PartName="/ppt/media/image78.wmf" ContentType="image/x-wmf"/>
  <Override PartName="/ppt/media/image38.png" ContentType="image/png"/>
  <Override PartName="/ppt/media/image66.wmf" ContentType="image/x-wmf"/>
  <Override PartName="/ppt/media/image77.wmf" ContentType="image/x-wmf"/>
  <Override PartName="/ppt/media/image37.png" ContentType="image/png"/>
  <Override PartName="/ppt/media/image41.wmf" ContentType="image/x-wmf"/>
  <Override PartName="/ppt/media/image7.png" ContentType="image/png"/>
  <Override PartName="/ppt/media/image65.wmf" ContentType="image/x-wmf"/>
  <Override PartName="/ppt/media/image74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73.wmf" ContentType="image/x-wmf"/>
  <Override PartName="/ppt/media/image80.png" ContentType="image/png"/>
  <Override PartName="/ppt/media/image3.png" ContentType="image/png"/>
  <Override PartName="/ppt/media/image72.wmf" ContentType="image/x-wmf"/>
  <Override PartName="/ppt/media/image2.png" ContentType="image/png"/>
  <Override PartName="/ppt/media/image69.wmf" ContentType="image/x-wmf"/>
  <Override PartName="/ppt/media/image75.png" ContentType="image/png"/>
  <Override PartName="/ppt/media/image32.wmf" ContentType="image/x-wmf"/>
  <Override PartName="/ppt/media/image67.wmf" ContentType="image/x-wmf"/>
  <Override PartName="/ppt/media/image16.png" ContentType="image/png"/>
  <Override PartName="/ppt/media/image81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64.wmf" ContentType="image/x-wmf"/>
  <Override PartName="/ppt/media/image14.wmf" ContentType="image/x-wmf"/>
  <Override PartName="/ppt/media/image27.wmf" ContentType="image/x-wmf"/>
  <Override PartName="/ppt/media/image34.wmf" ContentType="image/x-wmf"/>
  <Override PartName="/ppt/media/image5.png" ContentType="image/png"/>
  <Override PartName="/ppt/media/image58.png" ContentType="image/png"/>
  <Override PartName="/ppt/media/image15.wmf" ContentType="image/x-wmf"/>
  <Override PartName="/ppt/media/image54.png" ContentType="image/png"/>
  <Override PartName="/ppt/media/image18.png" ContentType="image/png"/>
  <Override PartName="/ppt/media/image40.wmf" ContentType="image/x-wmf"/>
  <Override PartName="/ppt/media/image83.png" ContentType="image/png"/>
  <Override PartName="/ppt/media/image12.wmf" ContentType="image/x-wmf"/>
  <Override PartName="/ppt/media/image1.png" ContentType="image/png"/>
  <Override PartName="/ppt/media/image13.png" ContentType="image/png"/>
  <Override PartName="/ppt/media/image82.wmf" ContentType="image/x-wmf"/>
  <Override PartName="/ppt/media/image17.wmf" ContentType="image/x-wmf"/>
  <Override PartName="/ppt/media/image56.png" ContentType="image/png"/>
  <Override PartName="/ppt/media/image53.png" ContentType="image/png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8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850-7EE8-4988-8CBA-2BD8806F879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0185-A85F-4A9F-9DCB-EE42454FE10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F46-FDE0-4A31-AC67-A045A33F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977-984D-460C-A56F-9D9D07D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B4B-EE23-433D-ADE1-0C78AC69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534-E883-4BD5-ABEE-6C4DDE86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B8D-90B0-4F7C-83EC-4278432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B77-FAC5-4B8B-B8BD-6EE88FF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ADC-B9A9-4526-A63D-BFC7CAA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4CD-776C-4A5F-9BF3-B5B69D5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8AE-CE04-4D72-9DCF-4B9790C8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70E-EFB5-48D9-854A-F6E8B4F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D82-A0F1-4281-842A-5BCC44C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421-23B6-408A-B0D1-5FA1C41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3AA-889B-4182-8914-CE0FC49B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http://www.w3.org/TR/1999/REC-html401-19991224" TargetMode="External"/><Relationship Id="rId2" Type="http://schemas.openxmlformats.org/officeDocument/2006/relationships/hyperlink" Target="http://www.w3.org/TR/1999/REC-html401-19991224/index/elements.html" TargetMode="External"/><Relationship Id="rId3" Type="http://schemas.openxmlformats.org/officeDocument/2006/relationships/hyperlink" Target="http://www.w3.org/TR/2002/REC-xhtml1-20020801/" TargetMode="External"/><Relationship Id="rId4" Type="http://schemas.openxmlformats.org/officeDocument/2006/relationships/hyperlink" Target="http://www.w3.org/TR/2002/REC-xhtml1-20020801/dtds.html" TargetMode="External"/><Relationship Id="rId5" Type="http://schemas.openxmlformats.org/officeDocument/2006/relationships/hyperlink" Target="ftp://ftp.rfc-editor.org/in-notes/rfc2396.txt" TargetMode="External"/><Relationship Id="rId6" Type="http://schemas.openxmlformats.org/officeDocument/2006/relationships/hyperlink" Target="http://www.w3.org/TR/1999/WAI-WEBCONTENT-19990505/" TargetMode="External"/><Relationship Id="rId7" Type="http://schemas.openxmlformats.org/officeDocument/2006/relationships/hyperlink" Target="http://www.w3.org/TR/2004/REC-xml-20040204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localhost:8080/MultiFile.html" TargetMode="External"/><Relationship Id="rId2" Type="http://schemas.openxmlformats.org/officeDocument/2006/relationships/hyperlink" Target="http://localhost:8080/valid-xhtml10.png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rkup Language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HTML 1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212-2990-4EA4-8000-4CEB5678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13240" cy="184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elloWorldTwoPara"/>
          <p:cNvPicPr/>
          <p:nvPr/>
        </p:nvPicPr>
        <p:blipFill>
          <a:blip r:embed="rId2"/>
          <a:stretch/>
        </p:blipFill>
        <p:spPr>
          <a:xfrm>
            <a:off x="1828800" y="3581280"/>
            <a:ext cx="5345280" cy="211464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8D6-A7FA-48DD-ADE9-5ED6B333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65" name="Oval 6"/>
          <p:cNvSpPr/>
          <p:nvPr/>
        </p:nvSpPr>
        <p:spPr>
          <a:xfrm>
            <a:off x="2438280" y="1828800"/>
            <a:ext cx="1526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9C55-1EB3-470A-90BD-0BD9A66D4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71" name="Oval 6"/>
          <p:cNvSpPr/>
          <p:nvPr/>
        </p:nvSpPr>
        <p:spPr>
          <a:xfrm>
            <a:off x="2819520" y="1752480"/>
            <a:ext cx="5331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FD3-CA6B-479C-AF60-40B7B5F95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77" name="Oval 6"/>
          <p:cNvSpPr/>
          <p:nvPr/>
        </p:nvSpPr>
        <p:spPr>
          <a:xfrm>
            <a:off x="3276720" y="17524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F54-FF40-4B93-ABD4-9827A8FE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ny number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83" name="Oval 6"/>
          <p:cNvSpPr/>
          <p:nvPr/>
        </p:nvSpPr>
        <p:spPr>
          <a:xfrm>
            <a:off x="3429000" y="1752480"/>
            <a:ext cx="11430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C18-6DAD-4F20-AF12-60E37DE4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89" name="Oval 6"/>
          <p:cNvSpPr/>
          <p:nvPr/>
        </p:nvSpPr>
        <p:spPr>
          <a:xfrm>
            <a:off x="4572000" y="182880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A39D-9EDF-4770-9564-5D4FB621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95" name="Oval 6"/>
          <p:cNvSpPr/>
          <p:nvPr/>
        </p:nvSpPr>
        <p:spPr>
          <a:xfrm>
            <a:off x="4800600" y="175248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7A0-DC9C-4FB4-9506-B461955BF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01" name="Oval 6"/>
          <p:cNvSpPr/>
          <p:nvPr/>
        </p:nvSpPr>
        <p:spPr>
          <a:xfrm>
            <a:off x="5562720" y="182880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A08-077D-4BE1-880D-B0B32E74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f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07" name="Oval 6"/>
          <p:cNvSpPr/>
          <p:nvPr/>
        </p:nvSpPr>
        <p:spPr>
          <a:xfrm>
            <a:off x="5715000" y="175248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F96-F178-4B7D-9254-42E138CEA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13" name="Oval 6"/>
          <p:cNvSpPr/>
          <p:nvPr/>
        </p:nvSpPr>
        <p:spPr>
          <a:xfrm>
            <a:off x="6553080" y="1828800"/>
            <a:ext cx="15264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D075-3C71-4A7E-825B-36AFED1C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19" name="Oval 6"/>
          <p:cNvSpPr/>
          <p:nvPr/>
        </p:nvSpPr>
        <p:spPr>
          <a:xfrm>
            <a:off x="6858000" y="17524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DF8-AF8F-43F2-B166-FEEB0104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02520" cy="410868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>
            <a:off x="1219320" y="29718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39680" y="262728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9BD-5786-428C-9CF6-5E84D02F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25" name="Oval 5"/>
          <p:cNvSpPr/>
          <p:nvPr/>
        </p:nvSpPr>
        <p:spPr>
          <a:xfrm>
            <a:off x="7620120" y="17524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12CB-BD09-4430-9CD2-E16C0741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tr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31" name="Oval 5"/>
          <p:cNvSpPr/>
          <p:nvPr/>
        </p:nvSpPr>
        <p:spPr>
          <a:xfrm>
            <a:off x="7696080" y="175248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613-57B6-4D0A-A277-FB56FF9E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36" name="Oval 5"/>
          <p:cNvSpPr/>
          <p:nvPr/>
        </p:nvSpPr>
        <p:spPr>
          <a:xfrm>
            <a:off x="1752480" y="2209680"/>
            <a:ext cx="685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1739520" y="17892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AB2-2A99-4A85-8BBD-33660BBA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6"/>
          <p:cNvSpPr/>
          <p:nvPr/>
        </p:nvSpPr>
        <p:spPr>
          <a:xfrm>
            <a:off x="685800" y="251460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536040" y="41148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cogn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C9A-C032-4191-A77D-3A33E88C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6"/>
          <p:cNvSpPr/>
          <p:nvPr/>
        </p:nvSpPr>
        <p:spPr>
          <a:xfrm>
            <a:off x="2286000" y="251460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2122560" y="422748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data types allowed as attribute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ADDD-97D9-489E-AED4-4331061B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54" name="Oval 6"/>
          <p:cNvSpPr/>
          <p:nvPr/>
        </p:nvSpPr>
        <p:spPr>
          <a:xfrm>
            <a:off x="2133720" y="2438280"/>
            <a:ext cx="137160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2427120" y="19414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CII characters: letter, digit, 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. - _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C57-5B9B-41F6-BCBB-1B75529D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60" name="Oval 4"/>
          <p:cNvSpPr/>
          <p:nvPr/>
        </p:nvSpPr>
        <p:spPr>
          <a:xfrm>
            <a:off x="2209680" y="3048120"/>
            <a:ext cx="1371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"/>
          <p:cNvSpPr/>
          <p:nvPr/>
        </p:nvSpPr>
        <p:spPr>
          <a:xfrm flipH="1">
            <a:off x="3276720" y="2057400"/>
            <a:ext cx="457200" cy="990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720240" y="186516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 must be ltr or 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BF10-B8F2-4022-88AA-5DA09315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67" name="Oval 4"/>
          <p:cNvSpPr/>
          <p:nvPr/>
        </p:nvSpPr>
        <p:spPr>
          <a:xfrm>
            <a:off x="2209680" y="3352680"/>
            <a:ext cx="533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 flipH="1" flipV="1">
            <a:off x="2742840" y="3505320"/>
            <a:ext cx="762120" cy="7617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"/>
          <p:cNvSpPr/>
          <p:nvPr/>
        </p:nvSpPr>
        <p:spPr>
          <a:xfrm>
            <a:off x="3509640" y="4114800"/>
            <a:ext cx="51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ke NMTOKEN but must begin with letter 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_ :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 must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1DF-71DC-463F-BA19-C2784D8F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74" name="Oval 4"/>
          <p:cNvSpPr/>
          <p:nvPr/>
        </p:nvSpPr>
        <p:spPr>
          <a:xfrm>
            <a:off x="2209680" y="365760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2275200" y="3998880"/>
            <a:ext cx="560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y character except XML special character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lt;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 the quote character enclosing the attribute valu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92C1-B857-405A-B499-4A46FD0F6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18520" cy="3479760"/>
          </a:xfrm>
          <a:prstGeom prst="rect">
            <a:avLst/>
          </a:prstGeom>
          <a:ln w="0">
            <a:noFill/>
          </a:ln>
        </p:spPr>
      </p:pic>
      <p:sp>
        <p:nvSpPr>
          <p:cNvPr id="7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BB7-9A35-488F-9684-11687A39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elloWorldBadElt"/>
          <p:cNvPicPr/>
          <p:nvPr/>
        </p:nvPicPr>
        <p:blipFill>
          <a:blip r:embed="rId1"/>
          <a:stretch/>
        </p:blipFill>
        <p:spPr>
          <a:xfrm>
            <a:off x="2895480" y="2666880"/>
            <a:ext cx="4953240" cy="2244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17440" y="33130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 flipV="1">
            <a:off x="2133720" y="2971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831680" y="2743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l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2EC9-1A2E-414F-A236-6FC17598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84" name="AutoShape 6"/>
          <p:cNvSpPr/>
          <p:nvPr/>
        </p:nvSpPr>
        <p:spPr>
          <a:xfrm>
            <a:off x="3581280" y="2514600"/>
            <a:ext cx="4953240" cy="15238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4178880" y="4075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default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627-E5AF-4833-8426-016235A3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5" descr=""/>
          <p:cNvPicPr/>
          <p:nvPr/>
        </p:nvPicPr>
        <p:blipFill>
          <a:blip r:embed="rId1"/>
          <a:stretch/>
        </p:blipFill>
        <p:spPr>
          <a:xfrm>
            <a:off x="304920" y="2279520"/>
            <a:ext cx="8458200" cy="3016440"/>
          </a:xfrm>
          <a:prstGeom prst="rect">
            <a:avLst/>
          </a:prstGeom>
          <a:ln w="0">
            <a:noFill/>
          </a:ln>
        </p:spPr>
      </p:pic>
      <p:sp>
        <p:nvSpPr>
          <p:cNvPr id="7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1C6-4047-42D4-872E-EEEC6CD1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sp>
        <p:nvSpPr>
          <p:cNvPr id="795" name="Oval 6"/>
          <p:cNvSpPr/>
          <p:nvPr/>
        </p:nvSpPr>
        <p:spPr>
          <a:xfrm>
            <a:off x="2666880" y="3733920"/>
            <a:ext cx="3812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2288160" y="4114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ntit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D0E-4304-4C85-B574-1E1EFD75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sp>
        <p:nvSpPr>
          <p:cNvPr id="802" name="Oval 6"/>
          <p:cNvSpPr/>
          <p:nvPr/>
        </p:nvSpPr>
        <p:spPr>
          <a:xfrm>
            <a:off x="4038480" y="3657600"/>
            <a:ext cx="762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738240" y="4038480"/>
            <a:ext cx="40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lacement 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cursively replaced if it is a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55FD-B1BD-4322-BD6B-424251F7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 from DTD using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4648320" cy="3463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"/>
          <p:cNvPicPr/>
          <p:nvPr/>
        </p:nvPicPr>
        <p:blipFill>
          <a:blip r:embed="rId3"/>
          <a:stretch/>
        </p:blipFill>
        <p:spPr>
          <a:xfrm>
            <a:off x="1523880" y="5791320"/>
            <a:ext cx="4724640" cy="2523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"/>
          <p:cNvPicPr/>
          <p:nvPr/>
        </p:nvPicPr>
        <p:blipFill>
          <a:blip r:embed="rId4"/>
          <a:stretch/>
        </p:blipFill>
        <p:spPr>
          <a:xfrm>
            <a:off x="1295280" y="5191200"/>
            <a:ext cx="4129200" cy="592200"/>
          </a:xfrm>
          <a:prstGeom prst="rect">
            <a:avLst/>
          </a:prstGeom>
          <a:ln w="0">
            <a:noFill/>
          </a:ln>
        </p:spPr>
      </p:pic>
      <p:sp>
        <p:nvSpPr>
          <p:cNvPr id="812" name="Oval 10"/>
          <p:cNvSpPr/>
          <p:nvPr/>
        </p:nvSpPr>
        <p:spPr>
          <a:xfrm>
            <a:off x="2514600" y="4724280"/>
            <a:ext cx="304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30B-6B35-4F6D-B2AF-92545224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 from DTD using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4648320" cy="346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7" descr=""/>
          <p:cNvPicPr/>
          <p:nvPr/>
        </p:nvPicPr>
        <p:blipFill>
          <a:blip r:embed="rId3"/>
          <a:stretch/>
        </p:blipFill>
        <p:spPr>
          <a:xfrm>
            <a:off x="1523880" y="5791320"/>
            <a:ext cx="4724640" cy="252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8" descr=""/>
          <p:cNvPicPr/>
          <p:nvPr/>
        </p:nvPicPr>
        <p:blipFill>
          <a:blip r:embed="rId4"/>
          <a:stretch/>
        </p:blipFill>
        <p:spPr>
          <a:xfrm>
            <a:off x="1295280" y="5191200"/>
            <a:ext cx="4129200" cy="592200"/>
          </a:xfrm>
          <a:prstGeom prst="rect">
            <a:avLst/>
          </a:prstGeom>
          <a:ln w="0">
            <a:noFill/>
          </a:ln>
        </p:spPr>
      </p:pic>
      <p:sp>
        <p:nvSpPr>
          <p:cNvPr id="821" name="Oval 9"/>
          <p:cNvSpPr/>
          <p:nvPr/>
        </p:nvSpPr>
        <p:spPr>
          <a:xfrm>
            <a:off x="2971800" y="571500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0"/>
          <p:cNvSpPr/>
          <p:nvPr/>
        </p:nvSpPr>
        <p:spPr>
          <a:xfrm>
            <a:off x="2743200" y="4724280"/>
            <a:ext cx="17524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A80-81B5-4089-9784-E985AC5F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 document contains element type, attribute list, and entity decl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so contain declaration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ternal ent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dentifiers for secondary DT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32680" cy="1030320"/>
          </a:xfrm>
          <a:prstGeom prst="rect">
            <a:avLst/>
          </a:prstGeom>
          <a:ln w="0">
            <a:noFill/>
          </a:ln>
        </p:spPr>
      </p:pic>
      <p:sp>
        <p:nvSpPr>
          <p:cNvPr id="828" name="Oval 5"/>
          <p:cNvSpPr/>
          <p:nvPr/>
        </p:nvSpPr>
        <p:spPr>
          <a:xfrm>
            <a:off x="1676520" y="2514600"/>
            <a:ext cx="6705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2061000" y="3048120"/>
            <a:ext cx="52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ystem Identifi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 URL for primary DT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E19-1769-4E09-AD24-903130AA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34" name="Oval 5"/>
          <p:cNvSpPr/>
          <p:nvPr/>
        </p:nvSpPr>
        <p:spPr>
          <a:xfrm>
            <a:off x="2895480" y="2209680"/>
            <a:ext cx="1219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2822400" y="17524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ternal entit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911-E15C-4990-9D5F-812403744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40" name="Oval 6"/>
          <p:cNvSpPr/>
          <p:nvPr/>
        </p:nvSpPr>
        <p:spPr>
          <a:xfrm>
            <a:off x="2057400" y="2819520"/>
            <a:ext cx="1905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3722040" y="31608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ystem identifier (relative 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C338-87A1-4E9F-B570-5C2E63FA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46" name="Oval 6"/>
          <p:cNvSpPr/>
          <p:nvPr/>
        </p:nvSpPr>
        <p:spPr>
          <a:xfrm>
            <a:off x="1371600" y="3124080"/>
            <a:ext cx="15238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1512720" y="354168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ntity reference; imports content (entity declarations, called </a:t>
            </a:r>
            <a:br>
              <a:rPr sz="1800"/>
            </a:b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entity se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 of external entity at this point in the primary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E5C-8A6A-4FF8-86C5-A90B0F11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HelloWorldBadElt"/>
          <p:cNvPicPr/>
          <p:nvPr/>
        </p:nvPicPr>
        <p:blipFill>
          <a:blip r:embed="rId1"/>
          <a:stretch/>
        </p:blipFill>
        <p:spPr>
          <a:xfrm>
            <a:off x="2895480" y="2666880"/>
            <a:ext cx="4953240" cy="2244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17440" y="33130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133720" y="3429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56080" y="38098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392-F7C2-4027-9876-CB2A0DE6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Creation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zilla Comp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edia Dreamwe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" descr="Composer"/>
          <p:cNvPicPr/>
          <p:nvPr/>
        </p:nvPicPr>
        <p:blipFill>
          <a:blip r:embed="rId1"/>
          <a:stretch/>
        </p:blipFill>
        <p:spPr>
          <a:xfrm>
            <a:off x="1600200" y="2209680"/>
            <a:ext cx="5857920" cy="197172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13F-8684-48A3-BEE8-A4F4D2E6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BlogLogin"/>
          <p:cNvPicPr/>
          <p:nvPr/>
        </p:nvPicPr>
        <p:blipFill>
          <a:blip r:embed="rId1"/>
          <a:stretch/>
        </p:blipFill>
        <p:spPr>
          <a:xfrm>
            <a:off x="533520" y="2347920"/>
            <a:ext cx="8153280" cy="2994120"/>
          </a:xfrm>
          <a:prstGeom prst="rect">
            <a:avLst/>
          </a:prstGeom>
          <a:ln w="0">
            <a:noFill/>
          </a:ln>
        </p:spPr>
      </p:pic>
      <p:sp>
        <p:nvSpPr>
          <p:cNvPr id="8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3356-B070-4D83-B7B7-A5CDB86A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" descr=""/>
          <p:cNvPicPr/>
          <p:nvPr/>
        </p:nvPicPr>
        <p:blipFill>
          <a:blip r:embed="rId1"/>
          <a:stretch/>
        </p:blipFill>
        <p:spPr>
          <a:xfrm>
            <a:off x="1066680" y="1430280"/>
            <a:ext cx="7010640" cy="4773600"/>
          </a:xfrm>
          <a:prstGeom prst="rect">
            <a:avLst/>
          </a:prstGeom>
          <a:ln w="0">
            <a:noFill/>
          </a:ln>
        </p:spPr>
      </p:pic>
      <p:sp>
        <p:nvSpPr>
          <p:cNvPr id="861" name="Oval 5"/>
          <p:cNvSpPr/>
          <p:nvPr/>
        </p:nvSpPr>
        <p:spPr>
          <a:xfrm>
            <a:off x="1828800" y="464832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4026240" y="46846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rderless table used to lay ou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E14-6C57-4E17-9F17-842E8126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"/>
          <p:cNvPicPr/>
          <p:nvPr/>
        </p:nvPicPr>
        <p:blipFill>
          <a:blip r:embed="rId1"/>
          <a:stretch/>
        </p:blipFill>
        <p:spPr>
          <a:xfrm>
            <a:off x="838080" y="1959120"/>
            <a:ext cx="7086600" cy="3844800"/>
          </a:xfrm>
          <a:prstGeom prst="rect">
            <a:avLst/>
          </a:prstGeom>
          <a:ln w="0">
            <a:noFill/>
          </a:ln>
        </p:spPr>
      </p:pic>
      <p:sp>
        <p:nvSpPr>
          <p:cNvPr id="867" name="Oval 5"/>
          <p:cNvSpPr/>
          <p:nvPr/>
        </p:nvSpPr>
        <p:spPr>
          <a:xfrm>
            <a:off x="2895480" y="2438280"/>
            <a:ext cx="27432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4636080" y="201780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al text field for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F5F-5D17-4BE4-A357-30161FFF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4" descr="BlogAddEntry"/>
          <p:cNvPicPr/>
          <p:nvPr/>
        </p:nvPicPr>
        <p:blipFill>
          <a:blip r:embed="rId1"/>
          <a:stretch/>
        </p:blipFill>
        <p:spPr>
          <a:xfrm>
            <a:off x="1066680" y="1252440"/>
            <a:ext cx="7086600" cy="5051520"/>
          </a:xfrm>
          <a:prstGeom prst="rect">
            <a:avLst/>
          </a:prstGeom>
          <a:ln w="0">
            <a:noFill/>
          </a:ln>
        </p:spPr>
      </p:pic>
      <p:sp>
        <p:nvSpPr>
          <p:cNvPr id="873" name="Oval 5"/>
          <p:cNvSpPr/>
          <p:nvPr/>
        </p:nvSpPr>
        <p:spPr>
          <a:xfrm>
            <a:off x="1143000" y="44197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2520" y="4191120"/>
            <a:ext cx="109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x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at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048120" y="274320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>
            <a:off x="990720" y="2590920"/>
            <a:ext cx="20574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29680" y="2133720"/>
            <a:ext cx="76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.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t 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80A-A705-47AB-9323-6730ADAC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BlogView"/>
          <p:cNvPicPr/>
          <p:nvPr/>
        </p:nvPicPr>
        <p:blipFill>
          <a:blip r:embed="rId1"/>
          <a:stretch/>
        </p:blipFill>
        <p:spPr>
          <a:xfrm>
            <a:off x="1828800" y="1143000"/>
            <a:ext cx="5362560" cy="5372280"/>
          </a:xfrm>
          <a:prstGeom prst="rect">
            <a:avLst/>
          </a:prstGeom>
          <a:ln w="0">
            <a:noFill/>
          </a:ln>
        </p:spPr>
      </p:pic>
      <p:sp>
        <p:nvSpPr>
          <p:cNvPr id="8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98D0-2FCB-4FF0-B1A9-86559D60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5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095880" cy="490860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6"/>
          <p:cNvSpPr/>
          <p:nvPr/>
        </p:nvSpPr>
        <p:spPr>
          <a:xfrm>
            <a:off x="2209680" y="14479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7"/>
          <p:cNvSpPr/>
          <p:nvPr/>
        </p:nvSpPr>
        <p:spPr>
          <a:xfrm>
            <a:off x="2209680" y="35812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8"/>
          <p:cNvSpPr/>
          <p:nvPr/>
        </p:nvSpPr>
        <p:spPr>
          <a:xfrm>
            <a:off x="220968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8409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0"/>
          <p:cNvSpPr/>
          <p:nvPr/>
        </p:nvSpPr>
        <p:spPr>
          <a:xfrm>
            <a:off x="825120" y="3770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g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840960" y="48769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2"/>
          <p:cNvSpPr/>
          <p:nvPr/>
        </p:nvSpPr>
        <p:spPr>
          <a:xfrm>
            <a:off x="2438280" y="2743200"/>
            <a:ext cx="2362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4789440" y="27795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ble used for side-by-sid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37F-E369-43F8-B528-B369F432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g E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2394000"/>
          </a:xfrm>
          <a:prstGeom prst="rect">
            <a:avLst/>
          </a:prstGeom>
          <a:ln w="0">
            <a:noFill/>
          </a:ln>
        </p:spPr>
      </p:pic>
      <p:sp>
        <p:nvSpPr>
          <p:cNvPr id="8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DA2-8940-45A0-93B3-3B372F5B8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3857760"/>
          </a:xfrm>
          <a:prstGeom prst="rect">
            <a:avLst/>
          </a:prstGeom>
          <a:ln w="0">
            <a:noFill/>
          </a:ln>
        </p:spPr>
      </p:pic>
      <p:sp>
        <p:nvSpPr>
          <p:cNvPr id="902" name="Oval 5"/>
          <p:cNvSpPr/>
          <p:nvPr/>
        </p:nvSpPr>
        <p:spPr>
          <a:xfrm>
            <a:off x="5791320" y="3200400"/>
            <a:ext cx="6858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6"/>
          <p:cNvSpPr/>
          <p:nvPr/>
        </p:nvSpPr>
        <p:spPr>
          <a:xfrm>
            <a:off x="3200400" y="3505320"/>
            <a:ext cx="9144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"/>
          <p:cNvSpPr/>
          <p:nvPr/>
        </p:nvSpPr>
        <p:spPr>
          <a:xfrm>
            <a:off x="5550840" y="277956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 &amp; in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8"/>
          <p:cNvSpPr/>
          <p:nvPr/>
        </p:nvSpPr>
        <p:spPr>
          <a:xfrm>
            <a:off x="367920" y="3313080"/>
            <a:ext cx="14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eep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1752480" y="3581280"/>
            <a:ext cx="15242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74E-D45D-43FC-AF5A-047FD9E3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ML 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al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restric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HTML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notated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lative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ccessibility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XML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BFF-BDB2-4463-BA87-3CBCCDA4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s the beginning of a tag, how do you include 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 HTML docu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known as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racter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a character by its Unicode cod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6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x3C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x3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ity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a character by an HTML-define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EB58-4B4C-4851-BB2A-E61414B2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2033640"/>
            <a:ext cx="8915400" cy="373068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E22-348C-41B5-AA9B-D3974D90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n-breaking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amp;nbs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produces space but counts as part of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keep&amp;nbsp;together keep&amp;nbsp;togeth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KeepTogether"/>
          <p:cNvPicPr/>
          <p:nvPr/>
        </p:nvPicPr>
        <p:blipFill>
          <a:blip r:embed="rId1"/>
          <a:stretch/>
        </p:blipFill>
        <p:spPr>
          <a:xfrm>
            <a:off x="2286000" y="3581280"/>
            <a:ext cx="44863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3298-3774-47C9-9A13-6489F497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reaking space often used to create multiple spaces (not removed by norm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19240" y="3027240"/>
            <a:ext cx="510372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4148280" cy="86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Sentences"/>
          <p:cNvPicPr/>
          <p:nvPr/>
        </p:nvPicPr>
        <p:blipFill>
          <a:blip r:embed="rId3"/>
          <a:stretch/>
        </p:blipFill>
        <p:spPr>
          <a:xfrm>
            <a:off x="2438280" y="4648320"/>
            <a:ext cx="3495960" cy="172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06720" y="4114800"/>
            <a:ext cx="17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&amp;nbsp; +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displays a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1844640" y="3504960"/>
            <a:ext cx="1736640" cy="7254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1844640" y="3581280"/>
            <a:ext cx="2879640" cy="649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920960" y="4764240"/>
            <a:ext cx="1508040" cy="6458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920960" y="4687920"/>
            <a:ext cx="2041560" cy="7221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7E99-EE9A-49C4-8D2B-5633CCDB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reaking space often used to create multiple spaces (not removed by norm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019240" y="3027240"/>
            <a:ext cx="5103720" cy="80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4148280" cy="86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Sentences"/>
          <p:cNvPicPr/>
          <p:nvPr/>
        </p:nvPicPr>
        <p:blipFill>
          <a:blip r:embed="rId3"/>
          <a:stretch/>
        </p:blipFill>
        <p:spPr>
          <a:xfrm>
            <a:off x="2438280" y="4648320"/>
            <a:ext cx="3495960" cy="1726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520920" y="4761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wo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play a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V="1">
            <a:off x="1828800" y="419076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V="1">
            <a:off x="1828800" y="4190760"/>
            <a:ext cx="2133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1905120" y="5410080"/>
            <a:ext cx="144756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1905120" y="5334120"/>
            <a:ext cx="19047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BE86-DCF4-4B8C-BA98-CDF62D81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Attribut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 attribute names specified by HTML recommendation (or XML, as in xml:l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values must be quoted (matching single or double qu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ttribute specifications are space-separated, orde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513000"/>
          </a:xfrm>
          <a:prstGeom prst="rect">
            <a:avLst/>
          </a:prstGeom>
          <a:ln w="0">
            <a:noFill/>
          </a:ln>
        </p:spPr>
      </p:pic>
      <p:sp>
        <p:nvSpPr>
          <p:cNvPr id="1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6D8-AD37-479C-AF12-3C046ADE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“Hello World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108840" cy="338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597240" y="1941480"/>
            <a:ext cx="13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209680" y="25909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286000" y="19810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12360" y="35053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C781-39C8-4579-B582-F77FBA95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lloWorld"/>
          <p:cNvPicPr/>
          <p:nvPr/>
        </p:nvPicPr>
        <p:blipFill>
          <a:blip r:embed="rId2"/>
          <a:stretch/>
        </p:blipFill>
        <p:spPr>
          <a:xfrm>
            <a:off x="3394080" y="4757760"/>
            <a:ext cx="55911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6DA-D821-4ED8-8553-DE7F9702D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ad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duced us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use h1 for highest level, h2 for next highes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tyle (next chapter) if you don’t like the “look” of a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209680" y="2432160"/>
            <a:ext cx="3686400" cy="192564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A475-FA29-4C27-8400-D9110E13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FC1D-618D-46BE-BC8C-D845CE97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p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tain 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ext and display using monospace fo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any embedded markup (such a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&lt;br /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is still treated as mark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742000" cy="168264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EE0-BED1-4382-B86A-A2916F786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represen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ample of an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mpty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element that is not allowed to hav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allows two syntactic representations of emp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mpty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ntax &lt;br /&gt; is recommended for browser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parsers also recognize syntax &lt;br&gt;&lt;/br&gt; (start tag followed immediately by end tag), but many browsers do not understand this for empt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BC2-DF2B-4233-B401-CF88D1362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ADCA-F1EF-4791-A80C-C2BA1056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an b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a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various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yle she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ology (next chapter) to a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spa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 styleless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rase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pecifies semantics of text (not style direct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nt styl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, but frequent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372360" cy="393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2044800" cy="315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C39-9F95-4588-B822-BF1C5045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68880" cy="283068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E1A7-1050-4CB1-AA9E-0CFBF1E78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751-4831-4EF2-B8C1-657AAD42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rizontal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using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n empt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can be modified using style sheet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8535-955B-413D-96A0-A6F0A3A1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Tags an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tring of the form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 … 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ags in document instance of Hello World are either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end t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gin with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art t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l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an example o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r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at is, text treated specially by the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arkup text is calle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cter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normally displayed by the brows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t beginning of start/end tag is an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from start tag to matching end tag, including tags, is an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Cont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lement excludes its start and end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958-C61D-49E4-9791-DFC3AF37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E42F-1CA6-4595-A507-E3AB8F30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embedded using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s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L of image file (required).  Browser generates a GET request to this U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ext description of image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mensions of area that image will occupy (recomm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008680" cy="102564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4E6-1330-43DB-B952-FFEC4B8DC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3383-C1BC-447E-BFB9-4BB660995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li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duced by 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c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ing on a hyperlink causes browser to issue GET request to URL specified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h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e and render response in clien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f anchor element is text of hyperlink (avoid leading/trailing space in cont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91520" cy="117936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D79F-7182-4451-B577-3582204B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hors can be used 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vious example)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gment portion of a URL is used to reference a destination anc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scrolls so destination anchor is at (or near) top of clien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289480" cy="40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8139240" cy="32832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6705720" y="4419720"/>
            <a:ext cx="1295280" cy="380880"/>
          </a:xfrm>
          <a:prstGeom prst="ellipse">
            <a:avLst/>
          </a:prstGeom>
          <a:solidFill>
            <a:srgbClr val="bbe0e3">
              <a:alpha val="27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CC0-F13D-46E6-8545-28D83187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a special form of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owed to us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in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67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752480" y="3813120"/>
            <a:ext cx="2187720" cy="758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4673520" cy="341280"/>
          </a:xfrm>
          <a:prstGeom prst="rect">
            <a:avLst/>
          </a:prstGeom>
          <a:ln w="0">
            <a:noFill/>
          </a:ln>
        </p:spPr>
      </p:pic>
      <p:sp>
        <p:nvSpPr>
          <p:cNvPr id="238" name="Line 7"/>
          <p:cNvSpPr/>
          <p:nvPr/>
        </p:nvSpPr>
        <p:spPr>
          <a:xfrm>
            <a:off x="1447920" y="40384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1447920" y="4800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1447560" y="4800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354C-3A60-4182-B8EC-20A497AB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element is nested within another element, then the content of the inner element is also content of the outer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requires that elements be properly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5029200" cy="46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5257800"/>
            <a:ext cx="4876560" cy="520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1447920" y="5410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 flipH="1">
            <a:off x="1447560" y="5410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30CC-1B47-4C33-AC55-FDF00F1C6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TML elements are eith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owser automatically generates line breaks before and after the elemen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lement content is added to the “fl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DB01-1897-40E2-A527-6F804F97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ctic rules of thum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can contain inlin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eleme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ules for each version of (X)HTML are defined using SGML or XML (covered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B76E-879D-49FE-9539-64A8E7BD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img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rt tag containing attribut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ve U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t is interpreted relative to the URL of the document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ocument URL is 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calhost:8080/MultiFile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elative URL above represen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lute U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ocalhost:8080/valid-xhtml10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3276720" cy="365040"/>
          </a:xfrm>
          <a:prstGeom prst="rect">
            <a:avLst/>
          </a:prstGeom>
          <a:ln w="0">
            <a:noFill/>
          </a:ln>
        </p:spPr>
      </p:pic>
      <p:sp>
        <p:nvSpPr>
          <p:cNvPr id="2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90F-49B8-4647-81D3-36921BC1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Elemen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elloTree"/>
          <p:cNvPicPr/>
          <p:nvPr/>
        </p:nvPicPr>
        <p:blipFill>
          <a:blip r:embed="rId1"/>
          <a:stretch/>
        </p:blipFill>
        <p:spPr>
          <a:xfrm>
            <a:off x="3024360" y="1876320"/>
            <a:ext cx="3095280" cy="310536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205740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40600" y="19810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DCE-E248-48D7-926B-DCA32998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6324480" y="1595520"/>
            <a:ext cx="6108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57200" y="2192400"/>
            <a:ext cx="8305920" cy="293688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CE39-6D40-4822-ACA6-86A115DD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3000240" cy="544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382920" cy="29368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743200" y="160020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2819520" y="2590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819520" y="358128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93960" y="1905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rd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993240" y="2895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993600" y="4038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7088040" y="2438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 flipV="1">
            <a:off x="6324480" y="1981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 flipV="1">
            <a:off x="6476760" y="2285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6248520" y="25909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6400800" y="27432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Lists"/>
          <p:cNvPicPr/>
          <p:nvPr/>
        </p:nvPicPr>
        <p:blipFill>
          <a:blip r:embed="rId3"/>
          <a:stretch/>
        </p:blipFill>
        <p:spPr>
          <a:xfrm>
            <a:off x="6819840" y="3144960"/>
            <a:ext cx="2933640" cy="335592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5DA-40CF-4338-95EE-D4A8D34E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NestedLists"/>
          <p:cNvPicPr/>
          <p:nvPr/>
        </p:nvPicPr>
        <p:blipFill>
          <a:blip r:embed="rId1"/>
          <a:stretch/>
        </p:blipFill>
        <p:spPr>
          <a:xfrm>
            <a:off x="2819520" y="1219320"/>
            <a:ext cx="3423960" cy="2303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2971800" y="3606840"/>
            <a:ext cx="2819520" cy="569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2971800" y="4114800"/>
            <a:ext cx="3706920" cy="180648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6ED-D075-4B9C-A59F-C7C0ECBD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92680" cy="2293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2286000" y="4148280"/>
            <a:ext cx="4853160" cy="8967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6"/>
          <p:cNvSpPr/>
          <p:nvPr/>
        </p:nvSpPr>
        <p:spPr>
          <a:xfrm>
            <a:off x="2057400" y="23623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057400" y="31240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2057400" y="38862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44240" y="3313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V="1">
            <a:off x="1295280" y="2743200"/>
            <a:ext cx="6858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1676520" y="3505320"/>
            <a:ext cx="3045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1219320" y="3657600"/>
            <a:ext cx="761760" cy="5335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3"/>
          <p:cNvSpPr/>
          <p:nvPr/>
        </p:nvSpPr>
        <p:spPr>
          <a:xfrm rot="16200000">
            <a:off x="3657240" y="373356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"/>
          <p:cNvSpPr/>
          <p:nvPr/>
        </p:nvSpPr>
        <p:spPr>
          <a:xfrm rot="16200000">
            <a:off x="5105160" y="396216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5"/>
          <p:cNvSpPr/>
          <p:nvPr/>
        </p:nvSpPr>
        <p:spPr>
          <a:xfrm rot="16200000">
            <a:off x="6324480" y="396216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4498200" y="50292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 flipH="1" flipV="1">
            <a:off x="3657240" y="4648320"/>
            <a:ext cx="106668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5105520" y="4648320"/>
            <a:ext cx="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5410080" y="4648320"/>
            <a:ext cx="91440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48120" y="1981080"/>
            <a:ext cx="12189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804560" y="16765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Border 5 pixels, rules 1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3"/>
          <p:cNvSpPr/>
          <p:nvPr/>
        </p:nvSpPr>
        <p:spPr>
          <a:xfrm flipH="1">
            <a:off x="4114440" y="1905120"/>
            <a:ext cx="685800" cy="759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GradeTable"/>
          <p:cNvPicPr/>
          <p:nvPr/>
        </p:nvPicPr>
        <p:blipFill>
          <a:blip r:embed="rId3"/>
          <a:stretch/>
        </p:blipFill>
        <p:spPr>
          <a:xfrm>
            <a:off x="7010280" y="2505240"/>
            <a:ext cx="3414960" cy="23335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A7E-8655-4467-A682-4F2C301C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637400" cy="3670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685800" y="1401840"/>
            <a:ext cx="3124080" cy="1425600"/>
          </a:xfrm>
          <a:prstGeom prst="rect">
            <a:avLst/>
          </a:prstGeom>
          <a:ln w="0">
            <a:noFill/>
          </a:ln>
        </p:spPr>
      </p:pic>
      <p:sp>
        <p:nvSpPr>
          <p:cNvPr id="318" name="Oval 8"/>
          <p:cNvSpPr/>
          <p:nvPr/>
        </p:nvSpPr>
        <p:spPr>
          <a:xfrm>
            <a:off x="4495680" y="2743200"/>
            <a:ext cx="1219320" cy="30492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1523880" y="4191120"/>
            <a:ext cx="1219320" cy="30456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965760" y="29718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"/>
          <p:cNvSpPr/>
          <p:nvPr/>
        </p:nvSpPr>
        <p:spPr>
          <a:xfrm flipH="1">
            <a:off x="3428640" y="32767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4648320" y="3276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724280" y="32767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1143000" y="2743200"/>
            <a:ext cx="1523880" cy="30492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GradeTableHdr"/>
          <p:cNvPicPr/>
          <p:nvPr/>
        </p:nvPicPr>
        <p:blipFill>
          <a:blip r:embed="rId3"/>
          <a:stretch/>
        </p:blipFill>
        <p:spPr>
          <a:xfrm>
            <a:off x="5665680" y="0"/>
            <a:ext cx="3637080" cy="258912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FFD5-18BB-4EB4-8D96-08124DE1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69080" cy="3176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2"/>
          <a:stretch/>
        </p:blipFill>
        <p:spPr>
          <a:xfrm>
            <a:off x="1600200" y="4876920"/>
            <a:ext cx="5151600" cy="1214280"/>
          </a:xfrm>
          <a:prstGeom prst="rect">
            <a:avLst/>
          </a:prstGeom>
          <a:ln w="0">
            <a:noFill/>
          </a:ln>
        </p:spPr>
      </p:pic>
      <p:sp>
        <p:nvSpPr>
          <p:cNvPr id="331" name="Oval 6"/>
          <p:cNvSpPr/>
          <p:nvPr/>
        </p:nvSpPr>
        <p:spPr>
          <a:xfrm>
            <a:off x="3581280" y="3733920"/>
            <a:ext cx="685800" cy="228600"/>
          </a:xfrm>
          <a:prstGeom prst="ellipse">
            <a:avLst/>
          </a:prstGeom>
          <a:solidFill>
            <a:srgbClr val="33cc3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 flipH="1">
            <a:off x="4266720" y="3581280"/>
            <a:ext cx="762120" cy="2286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955040" y="342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/3,2/3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J2SE1_4_2"/>
          <p:cNvPicPr/>
          <p:nvPr/>
        </p:nvPicPr>
        <p:blipFill>
          <a:blip r:embed="rId3"/>
          <a:stretch/>
        </p:blipFill>
        <p:spPr>
          <a:xfrm>
            <a:off x="6292800" y="-204840"/>
            <a:ext cx="46357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A98C-941B-486B-A85B-618F9BD6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15AE-22DF-449D-90E7-23811593E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43" name="Oval 5"/>
          <p:cNvSpPr/>
          <p:nvPr/>
        </p:nvSpPr>
        <p:spPr>
          <a:xfrm>
            <a:off x="533520" y="1981080"/>
            <a:ext cx="685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613800" y="152388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form is content of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rm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5F9E-D3CF-4724-85B9-AEB01D90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49" name="Oval 4"/>
          <p:cNvSpPr/>
          <p:nvPr/>
        </p:nvSpPr>
        <p:spPr>
          <a:xfrm>
            <a:off x="1143000" y="1981080"/>
            <a:ext cx="3657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150200" y="1600200"/>
            <a:ext cx="69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specifies URL where form data is sent in a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374A-9A0F-461E-A233-711DFD6F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55" name="Oval 4"/>
          <p:cNvSpPr/>
          <p:nvPr/>
        </p:nvSpPr>
        <p:spPr>
          <a:xfrm>
            <a:off x="4800600" y="1981080"/>
            <a:ext cx="1447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584880" y="160020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TP request method (low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AA8-921B-48C3-B91B-E24ECF4A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oot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type declaration specifies name of root elemen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&lt;!DOCTYPE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of HTML document must b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1.0 (standard we will follow) requires that this element contain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xml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ttribute spec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e/value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52480" y="5562720"/>
            <a:ext cx="5943600" cy="288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2666880" y="5562720"/>
            <a:ext cx="4800600" cy="304560"/>
          </a:xfrm>
          <a:prstGeom prst="rect">
            <a:avLst/>
          </a:prstGeom>
          <a:solidFill>
            <a:srgbClr val="99cc00">
              <a:alpha val="3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62520" y="5257800"/>
            <a:ext cx="22860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0DD-76C1-40EA-9262-BBAF67CD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61" name="Oval 4"/>
          <p:cNvSpPr/>
          <p:nvPr/>
        </p:nvSpPr>
        <p:spPr>
          <a:xfrm>
            <a:off x="685800" y="228600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593000" y="2246400"/>
            <a:ext cx="67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iv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the block element analog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no-style block e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10E-B984-4616-9B7D-6795767D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67" name="Oval 4"/>
          <p:cNvSpPr/>
          <p:nvPr/>
        </p:nvSpPr>
        <p:spPr>
          <a:xfrm>
            <a:off x="685800" y="228600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588320" y="2246400"/>
            <a:ext cx="60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control elements must be content of a block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27E-69E8-4279-BDE0-844932A90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73" name="Oval 4"/>
          <p:cNvSpPr/>
          <p:nvPr/>
        </p:nvSpPr>
        <p:spPr>
          <a:xfrm>
            <a:off x="3124080" y="274320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594520" y="2438280"/>
            <a:ext cx="48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rol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form user-interface e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106-F381-4FDF-9608-462014B8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79" name="Oval 4"/>
          <p:cNvSpPr/>
          <p:nvPr/>
        </p:nvSpPr>
        <p:spPr>
          <a:xfrm>
            <a:off x="3124080" y="274320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594880" y="243828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used for one-line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19F8-BF4D-4D46-BE45-3F428AE5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9CF-F55A-4936-A553-D79345E4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89" name="Oval 4"/>
          <p:cNvSpPr/>
          <p:nvPr/>
        </p:nvSpPr>
        <p:spPr>
          <a:xfrm>
            <a:off x="5334120" y="274320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062080" y="243828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 associated with this control’s data i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8BC-D557-4C19-AA56-4DD0D553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95" name="Oval 4"/>
          <p:cNvSpPr/>
          <p:nvPr/>
        </p:nvSpPr>
        <p:spPr>
          <a:xfrm>
            <a:off x="7010280" y="2819520"/>
            <a:ext cx="12956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117320" y="243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dth (number of characters) of text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6AC-2A2A-4F33-88AB-D2032B0D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01" name="Oval 7"/>
          <p:cNvSpPr/>
          <p:nvPr/>
        </p:nvSpPr>
        <p:spPr>
          <a:xfrm>
            <a:off x="8153280" y="281952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5856480" y="23986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npu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n empty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2C7-AF68-43C6-B46C-AC692E16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07" name="Oval 4"/>
          <p:cNvSpPr/>
          <p:nvPr/>
        </p:nvSpPr>
        <p:spPr>
          <a:xfrm>
            <a:off x="914400" y="251460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046600" y="247500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ab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o associate text with 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72C-0CF6-440F-9A4F-D89C8632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13" name="Oval 4"/>
          <p:cNvSpPr/>
          <p:nvPr/>
        </p:nvSpPr>
        <p:spPr>
          <a:xfrm>
            <a:off x="914400" y="33526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817280" y="33130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controls are inlin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CBA7-E1E0-492B-955E-D0A862D8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GML and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GMLXML"/>
          <p:cNvPicPr/>
          <p:nvPr/>
        </p:nvPicPr>
        <p:blipFill>
          <a:blip r:embed="rId1"/>
          <a:stretch/>
        </p:blipFill>
        <p:spPr>
          <a:xfrm>
            <a:off x="838080" y="1523880"/>
            <a:ext cx="7245360" cy="46245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E01-7239-432C-B4C9-EA3C151C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19" name="Oval 4"/>
          <p:cNvSpPr/>
          <p:nvPr/>
        </p:nvSpPr>
        <p:spPr>
          <a:xfrm>
            <a:off x="1143000" y="4419720"/>
            <a:ext cx="1219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17600" y="419112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xtarea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control used for multi-lin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1DFB-FECB-4271-B574-B2D68F2E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25" name="Oval 4"/>
          <p:cNvSpPr/>
          <p:nvPr/>
        </p:nvSpPr>
        <p:spPr>
          <a:xfrm>
            <a:off x="4267080" y="441972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103280" y="483696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eight and width in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51E-944F-4059-A89E-8607B120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31" name="Oval 6"/>
          <p:cNvSpPr/>
          <p:nvPr/>
        </p:nvSpPr>
        <p:spPr>
          <a:xfrm>
            <a:off x="6400800" y="4419720"/>
            <a:ext cx="1447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2522880" y="495288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xtarea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ot an empty element; any content is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BF1-9F36-48F8-B47B-7A9BF3E3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8659-BD5A-469A-BFD2-E963221C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41" name="Oval 5"/>
          <p:cNvSpPr/>
          <p:nvPr/>
        </p:nvSpPr>
        <p:spPr>
          <a:xfrm>
            <a:off x="1143000" y="2133720"/>
            <a:ext cx="26668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3584520" y="19051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eckbox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BCE-7FDB-47BD-949C-263A1D7F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47" name="Oval 4"/>
          <p:cNvSpPr/>
          <p:nvPr/>
        </p:nvSpPr>
        <p:spPr>
          <a:xfrm>
            <a:off x="5638680" y="2209680"/>
            <a:ext cx="15242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4118400" y="1828800"/>
            <a:ext cx="47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sent in HTTP request if box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D27-AD65-49E3-AE1B-27546D13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53" name="Oval 4"/>
          <p:cNvSpPr/>
          <p:nvPr/>
        </p:nvSpPr>
        <p:spPr>
          <a:xfrm>
            <a:off x="3581280" y="1828800"/>
            <a:ext cx="2133720" cy="2666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55560" y="148428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rols can share a comm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8B3D-7EF8-417E-BB10-8CC68D8E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59" name="Oval 4"/>
          <p:cNvSpPr/>
          <p:nvPr/>
        </p:nvSpPr>
        <p:spPr>
          <a:xfrm>
            <a:off x="914400" y="4572000"/>
            <a:ext cx="2514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603800" y="4952880"/>
            <a:ext cx="64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ubmit button: form data sent to action URL if button is cli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857-C32E-4CF2-A4E3-E9B354F6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ExampleDotOrg"/>
          <p:cNvPicPr/>
          <p:nvPr/>
        </p:nvPicPr>
        <p:blipFill>
          <a:blip r:embed="rId1"/>
          <a:stretch/>
        </p:blipFill>
        <p:spPr>
          <a:xfrm>
            <a:off x="457200" y="1676520"/>
            <a:ext cx="8434440" cy="2743200"/>
          </a:xfrm>
          <a:prstGeom prst="rect">
            <a:avLst/>
          </a:prstGeom>
          <a:ln w="0">
            <a:noFill/>
          </a:ln>
        </p:spPr>
      </p:pic>
      <p:sp>
        <p:nvSpPr>
          <p:cNvPr id="4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07E-7B59-4D06-BFD0-6701690A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ExampleDotOrg"/>
          <p:cNvPicPr/>
          <p:nvPr/>
        </p:nvPicPr>
        <p:blipFill>
          <a:blip r:embed="rId1"/>
          <a:stretch/>
        </p:blipFill>
        <p:spPr>
          <a:xfrm>
            <a:off x="457200" y="1676520"/>
            <a:ext cx="8434440" cy="2743200"/>
          </a:xfrm>
          <a:prstGeom prst="rect">
            <a:avLst/>
          </a:prstGeom>
          <a:ln w="0">
            <a:noFill/>
          </a:ln>
        </p:spPr>
      </p:pic>
      <p:sp>
        <p:nvSpPr>
          <p:cNvPr id="469" name="Oval 5"/>
          <p:cNvSpPr/>
          <p:nvPr/>
        </p:nvSpPr>
        <p:spPr>
          <a:xfrm>
            <a:off x="4495680" y="2590920"/>
            <a:ext cx="236232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4405680" y="224640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data (in GET 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1F2-E8DD-4CC4-8E28-73F37A80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ML Document Type Decl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TML 1.0 Stri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XHTML 1.0 Strict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xhtml1/DTD/xhtml1-strict.dtd"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TML 1.0 Frames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XHTML 1.0 Frameset//EN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xhtml1/DTD/xhtml1-frameset.dtd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Transitiona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HTML 4.01 Transitional//EN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html4/loose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6B4-3972-4B9D-97CD-B9C82BFF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75" name="Oval 4"/>
          <p:cNvSpPr/>
          <p:nvPr/>
        </p:nvSpPr>
        <p:spPr>
          <a:xfrm>
            <a:off x="4648320" y="4572000"/>
            <a:ext cx="35812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053160" y="502920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splayed on button and sent to server if button cli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BEE-4E4B-4624-80DC-EB170574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IncomeRadio"/>
          <p:cNvPicPr/>
          <p:nvPr/>
        </p:nvPicPr>
        <p:blipFill>
          <a:blip r:embed="rId1"/>
          <a:stretch/>
        </p:blipFill>
        <p:spPr>
          <a:xfrm>
            <a:off x="3581280" y="1905120"/>
            <a:ext cx="4572000" cy="240336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5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765360" y="3048120"/>
            <a:ext cx="24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adio buttons: at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can be select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837-7929-46E8-827B-AF0B39EA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87" name="Oval 5"/>
          <p:cNvSpPr/>
          <p:nvPr/>
        </p:nvSpPr>
        <p:spPr>
          <a:xfrm>
            <a:off x="1525680" y="2284560"/>
            <a:ext cx="2439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737520" y="20574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adio butt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AA01-D4AC-4014-BEE1-B40D7E30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4"/>
          <p:cNvSpPr/>
          <p:nvPr/>
        </p:nvSpPr>
        <p:spPr>
          <a:xfrm>
            <a:off x="3962520" y="22096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594520" y="5410080"/>
            <a:ext cx="57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radio buttons with the same name form a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butt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964-3685-40F6-A218-9F0A2E816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/>
          <p:cNvSpPr/>
          <p:nvPr/>
        </p:nvSpPr>
        <p:spPr>
          <a:xfrm>
            <a:off x="3962520" y="22096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2593800" y="541008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 one button of a set can be selecte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DE20-DEEB-4137-8D5E-E68B98D4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05" name="Oval 4"/>
          <p:cNvSpPr/>
          <p:nvPr/>
        </p:nvSpPr>
        <p:spPr>
          <a:xfrm>
            <a:off x="2362320" y="36576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806360" y="3657600"/>
            <a:ext cx="36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button is initially selected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hecke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also applies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to check 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B58D-6987-499B-9827-92429A39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11" name="Oval 4"/>
          <p:cNvSpPr/>
          <p:nvPr/>
        </p:nvSpPr>
        <p:spPr>
          <a:xfrm>
            <a:off x="2362320" y="36576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4802760" y="365760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Boolean attribut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 default fal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true by specifying n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01B-2CF8-450F-B3F4-49E8E381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17" name="Oval 4"/>
          <p:cNvSpPr/>
          <p:nvPr/>
        </p:nvSpPr>
        <p:spPr>
          <a:xfrm>
            <a:off x="6705720" y="4724280"/>
            <a:ext cx="106668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5261760" y="53341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s string: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gt;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DBA-5265-4ACE-932A-9EA109F5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IncomeSelect"/>
          <p:cNvPicPr/>
          <p:nvPr/>
        </p:nvPicPr>
        <p:blipFill>
          <a:blip r:embed="rId1"/>
          <a:stretch/>
        </p:blipFill>
        <p:spPr>
          <a:xfrm>
            <a:off x="1066680" y="2133720"/>
            <a:ext cx="6405840" cy="186840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/>
          <p:cNvSpPr/>
          <p:nvPr/>
        </p:nvSpPr>
        <p:spPr>
          <a:xfrm>
            <a:off x="7543800" y="27432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7682760" y="2779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8B3A-9493-4566-851B-EFC9C572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29" name="Oval 6"/>
          <p:cNvSpPr/>
          <p:nvPr/>
        </p:nvSpPr>
        <p:spPr>
          <a:xfrm>
            <a:off x="1219320" y="2286000"/>
            <a:ext cx="3200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4484160" y="232236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 control; name give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24E0-0CCF-42BA-90B4-270829F1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white space characters: carriage return, line feed, space, horizontal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character data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rm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hite space is converted to spac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and trailing spaces are trim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secutive space characters are replaced by a single spac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B5B-05A5-43A9-BA13-43B377FD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35" name="Oval 4"/>
          <p:cNvSpPr/>
          <p:nvPr/>
        </p:nvSpPr>
        <p:spPr>
          <a:xfrm>
            <a:off x="1523880" y="2590920"/>
            <a:ext cx="2971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195080" y="23623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menu item has its ow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0DE-6CD0-4ED0-A704-2B76AD565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41" name="Oval 4"/>
          <p:cNvSpPr/>
          <p:nvPr/>
        </p:nvSpPr>
        <p:spPr>
          <a:xfrm>
            <a:off x="4419720" y="2895480"/>
            <a:ext cx="2819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627880" y="3236760"/>
            <a:ext cx="32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tem initially displayed 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8B0-22FA-4F8D-80F0-2B39778B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5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orm contr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set (grou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abl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ubmit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(emb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oreControls"/>
          <p:cNvPicPr/>
          <p:nvPr/>
        </p:nvPicPr>
        <p:blipFill>
          <a:blip r:embed="rId1"/>
          <a:stretch/>
        </p:blipFill>
        <p:spPr>
          <a:xfrm>
            <a:off x="4648320" y="1295280"/>
            <a:ext cx="3495600" cy="5181840"/>
          </a:xfrm>
          <a:prstGeom prst="rect">
            <a:avLst/>
          </a:prstGeom>
          <a:ln w="0">
            <a:noFill/>
          </a:ln>
        </p:spPr>
      </p:pic>
      <p:sp>
        <p:nvSpPr>
          <p:cNvPr id="5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6B6E-8D80-4928-A385-D8C34C83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37160" cy="5216400"/>
          </a:xfrm>
          <a:prstGeom prst="rect">
            <a:avLst/>
          </a:prstGeom>
          <a:ln w="0">
            <a:noFill/>
          </a:ln>
        </p:spPr>
      </p:pic>
      <p:sp>
        <p:nvSpPr>
          <p:cNvPr id="5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C25-AEB4-48A6-85B4-9505A437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XML is used to define the syntax of X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XML files that define a language are known as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cument type defin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T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 primarily consists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cla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ment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me and content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tribute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ttribut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ne meaning of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ACA-DBC0-42B0-BDA6-811C9E79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60" name="Oval 5"/>
          <p:cNvSpPr/>
          <p:nvPr/>
        </p:nvSpPr>
        <p:spPr>
          <a:xfrm>
            <a:off x="2590920" y="1828800"/>
            <a:ext cx="685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6600" y="2286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F8E2-06D5-4343-B74C-F2F150B9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66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39E-F6B9-4B27-B1A0-6CDF1BDB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72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2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D468-FCDA-44B8-AE01-01C06B4B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79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2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582" name="Oval 7"/>
          <p:cNvSpPr/>
          <p:nvPr/>
        </p:nvSpPr>
        <p:spPr>
          <a:xfrm>
            <a:off x="2895480" y="3809880"/>
            <a:ext cx="2133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EA8B-0941-44A7-A3BD-6DE1E8C0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6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455760"/>
          </a:xfrm>
          <a:prstGeom prst="rect">
            <a:avLst/>
          </a:prstGeom>
          <a:ln w="0">
            <a:noFill/>
          </a:ln>
        </p:spPr>
      </p:pic>
      <p:sp>
        <p:nvSpPr>
          <p:cNvPr id="589" name="Oval 8"/>
          <p:cNvSpPr/>
          <p:nvPr/>
        </p:nvSpPr>
        <p:spPr>
          <a:xfrm>
            <a:off x="2971800" y="1828800"/>
            <a:ext cx="914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ECD-1B4C-4947-8CEA-5E8A27D2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235480" cy="1876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elloWorldWhiteSpace"/>
          <p:cNvPicPr/>
          <p:nvPr/>
        </p:nvPicPr>
        <p:blipFill>
          <a:blip r:embed="rId2"/>
          <a:stretch/>
        </p:blipFill>
        <p:spPr>
          <a:xfrm>
            <a:off x="1828800" y="3809880"/>
            <a:ext cx="5562720" cy="18259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5CCA-637C-4DE8-A7DB-19AFBB3F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455760"/>
          </a:xfrm>
          <a:prstGeom prst="rect">
            <a:avLst/>
          </a:prstGeom>
          <a:ln w="0">
            <a:noFill/>
          </a:ln>
        </p:spPr>
      </p:pic>
      <p:sp>
        <p:nvSpPr>
          <p:cNvPr id="596" name="Oval 6"/>
          <p:cNvSpPr/>
          <p:nvPr/>
        </p:nvSpPr>
        <p:spPr>
          <a:xfrm>
            <a:off x="2971800" y="1828800"/>
            <a:ext cx="914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"/>
          <p:cNvSpPr/>
          <p:nvPr/>
        </p:nvSpPr>
        <p:spPr>
          <a:xfrm>
            <a:off x="2895480" y="33526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21BC-2208-44DB-BFEE-598BC7DE9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04" name="Oval 6"/>
          <p:cNvSpPr/>
          <p:nvPr/>
        </p:nvSpPr>
        <p:spPr>
          <a:xfrm>
            <a:off x="3505320" y="1752480"/>
            <a:ext cx="25146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41D-3C2A-4102-90FB-60CEE7E1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11" name="Oval 6"/>
          <p:cNvSpPr/>
          <p:nvPr/>
        </p:nvSpPr>
        <p:spPr>
          <a:xfrm>
            <a:off x="3505320" y="1752480"/>
            <a:ext cx="25146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2971800" y="426708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82E-89A8-4898-89B4-29926E35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8"/>
          <p:cNvSpPr/>
          <p:nvPr/>
        </p:nvSpPr>
        <p:spPr>
          <a:xfrm>
            <a:off x="1069200" y="17517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!ELEMENT textarea (#PCDATA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429000" y="1676520"/>
            <a:ext cx="129528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6CD-BBB7-4F92-823D-4A7D3161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1069200" y="17517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!ELEMENT textarea (#PCDATA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6"/>
          <p:cNvSpPr/>
          <p:nvPr/>
        </p:nvSpPr>
        <p:spPr>
          <a:xfrm>
            <a:off x="3429000" y="1676520"/>
            <a:ext cx="129528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7"/>
          <p:cNvSpPr/>
          <p:nvPr/>
        </p:nvSpPr>
        <p:spPr>
          <a:xfrm>
            <a:off x="2971800" y="480060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3CC-E396-45D0-B4AB-80F4743B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33" name="Oval 8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277E-2D93-4043-99D9-85449204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39" name="Oval 5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147160" cy="20397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DCC7-A1BD-4D8A-8E51-E96718DE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46" name="Oval 5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147160" cy="2039760"/>
          </a:xfrm>
          <a:prstGeom prst="rect">
            <a:avLst/>
          </a:prstGeom>
          <a:ln w="0">
            <a:noFill/>
          </a:ln>
        </p:spPr>
      </p:pic>
      <p:sp>
        <p:nvSpPr>
          <p:cNvPr id="648" name="Oval 7"/>
          <p:cNvSpPr/>
          <p:nvPr/>
        </p:nvSpPr>
        <p:spPr>
          <a:xfrm>
            <a:off x="762120" y="47242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C92F-B33D-44A1-8AC5-078DD299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AF5B-5C9E-4C3D-BE6E-4E612586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a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59" name="Oval 6"/>
          <p:cNvSpPr/>
          <p:nvPr/>
        </p:nvSpPr>
        <p:spPr>
          <a:xfrm>
            <a:off x="1523880" y="1752480"/>
            <a:ext cx="990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74E-5C9C-44E9-8AAE-076F5A86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0:50:17Z</dcterms:created>
  <dc:creator>Duquesne University</dc:creator>
  <dc:description/>
  <dc:language>en-US</dc:language>
  <cp:lastModifiedBy>user</cp:lastModifiedBy>
  <dcterms:modified xsi:type="dcterms:W3CDTF">2017-09-29T10:47:33Z</dcterms:modified>
  <cp:revision>57</cp:revision>
  <dc:subject/>
  <dc:title>Markup Languages: XHTML 1.0</dc:title>
</cp:coreProperties>
</file>